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5.png" ContentType="image/png"/>
  <Override PartName="/ppt/media/image9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4.jpeg" ContentType="image/jpeg"/>
  <Override PartName="/ppt/media/image23.wmf" ContentType="image/x-wmf"/>
  <Override PartName="/ppt/media/image21.wmf" ContentType="image/x-wmf"/>
  <Override PartName="/ppt/media/image18.jpeg" ContentType="image/jpeg"/>
  <Override PartName="/ppt/media/image22.wmf" ContentType="image/x-wmf"/>
  <Override PartName="/ppt/media/image6.png" ContentType="image/png"/>
  <Override PartName="/ppt/media/image20.wmf" ContentType="image/x-wmf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10.wmf" ContentType="image/x-wmf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move the slide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ftr" idx="14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 type="sldNum" idx="15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5DDF4-AF18-4796-88A0-C4CAA59AB7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come everyone, introduce mysel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d Aloud Missing M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lk about uses for beginning of school, importance of numbers and ma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lain why we are here today: To learn about and get resources for Read Aloud books for the Math classroo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F59E4-0C16-46B4-8FDA-9C00C42027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over points on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D730A-E981-41B7-9450-3CAEB513D7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 over points on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4CF8-4AEA-4B46-B382-75979DF90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FA46-03EB-42D0-836E-AEA49EBD0F1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1363-D3DF-41B1-94D2-27ED211BF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CC01-0E13-4F36-9925-D24E26587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953A-82B5-484D-B1E1-ABFD49865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BFE1-E880-4F70-9707-77611DBED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97A93-C494-483A-B372-CC3C5C167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75F2-471F-47FC-BE64-34E4A6683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8885-B6D3-4A53-9408-780D978F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79FDE-BEFD-42D9-B83C-BDE44CD40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16494-4A2A-451B-9B61-CA3FB26BA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A90F-2DD0-4D08-B539-CD1671417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7AC2-FC54-4AE4-8350-B1E3DCFC5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5829-EE8D-4897-A36C-7D138D834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F0B02-350F-4BB2-BFE6-5815AE7C4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B8BB6-B0C1-4900-ABE3-A0516C2AF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1923-3449-4FCB-8CFC-7D31BD80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0180F-6E39-4D02-AED0-F5EE59239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07B22-7AEE-43BE-BDFB-B69FF93C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F086F-2C75-4ADB-AFA3-38D44BA72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F2D044-3089-4CCF-9D8C-8AEE7C9C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26EAB-500A-4C54-9604-AC7F62333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6E10D1-C988-451A-A720-D0F55A2FF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706A53-1D4B-489D-B35E-12E7A1866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EFEB-15A0-40BC-ABED-421091B61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570B3-A8C6-4F7B-9386-ED49837D6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0D0653-2973-4B14-BA25-B4A4F2E0E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7BBAF3-345D-4551-894E-CE293DC1B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0ABA4-0872-4421-826A-38BA107F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95D2E-A832-4EF0-9F15-48E64229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649B33-39D4-4FA6-B0D1-D77CC9AA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6F360-EF19-41BB-AFFA-D82F20454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AB27ED-DEB7-419D-A65C-62036FE6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27F7D0-E948-41D2-8619-CBB34021A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6308B-42B4-4664-A2E3-16B8F0556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D79E-9195-43FB-BB83-89960333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E0A27-5811-465E-AAF4-F2A4AC3D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A90BB-7B99-4651-9DB6-3213A4DB5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C1FF97-C2DF-4A87-8084-CC6D096F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0EB55-EFFD-46FC-95C4-B53B48FE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15BAB0-C2EF-432F-9E9A-501DE7373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31B0FE-5F20-4B4B-B9A7-1A412028A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B81E98-9774-4C29-A74B-8284E8FE7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E19BF2-63CC-4C21-A21D-6EC4709BC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D3D298-7F5D-4C9C-9089-630EAE0B0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0DBA-419C-46FD-9A8A-B291FC51C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CC98-F403-409F-9709-66FE6745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06AA5-FF7D-4042-948A-801AC7BE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74BD-9F58-407C-A0A0-A1E65636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01ED-65AB-4D88-867E-CC2184962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8DA2B-9872-4EC9-9F74-748B8AAC536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58BB1-47C3-4952-8917-9AABE14DC38F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-6480" y="5102280"/>
            <a:ext cx="9156960" cy="1762200"/>
            <a:chOff x="-6480" y="5102280"/>
            <a:chExt cx="9156960" cy="17622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-6480" y="5102280"/>
              <a:ext cx="9156960" cy="176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5520"/>
              <a:ext cx="9144000" cy="175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-6480" y="-6480"/>
            <a:ext cx="9156960" cy="5121360"/>
            <a:chOff x="-6480" y="-6480"/>
            <a:chExt cx="9156960" cy="512136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5121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13" name="Rectangle 10" descr=""/>
            <p:cNvPicPr/>
            <p:nvPr/>
          </p:nvPicPr>
          <p:blipFill>
            <a:blip r:embed="rId6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16" name="Rectangle 11" descr=""/>
            <p:cNvPicPr/>
            <p:nvPr/>
          </p:nvPicPr>
          <p:blipFill>
            <a:blip r:embed="rId7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20" name="Oval 13" descr=""/>
            <p:cNvPicPr/>
            <p:nvPr/>
          </p:nvPicPr>
          <p:blipFill>
            <a:blip r:embed="rId8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8D10F-528E-45F3-85E2-41F71582A401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10"/>
          <p:cNvGrpSpPr/>
          <p:nvPr/>
        </p:nvGrpSpPr>
        <p:grpSpPr>
          <a:xfrm>
            <a:off x="-6480" y="3859200"/>
            <a:ext cx="9156960" cy="3005280"/>
            <a:chOff x="-6480" y="3859200"/>
            <a:chExt cx="9156960" cy="3005280"/>
          </a:xfrm>
        </p:grpSpPr>
        <p:pic>
          <p:nvPicPr>
            <p:cNvPr id="164" name="Rectangle 10" descr=""/>
            <p:cNvPicPr/>
            <p:nvPr/>
          </p:nvPicPr>
          <p:blipFill>
            <a:blip r:embed="rId3"/>
            <a:stretch/>
          </p:blipFill>
          <p:spPr>
            <a:xfrm>
              <a:off x="-6480" y="3859200"/>
              <a:ext cx="9156960" cy="300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11"/>
          <p:cNvGrpSpPr/>
          <p:nvPr/>
        </p:nvGrpSpPr>
        <p:grpSpPr>
          <a:xfrm>
            <a:off x="-6480" y="-6480"/>
            <a:ext cx="9156960" cy="3876840"/>
            <a:chOff x="-6480" y="-6480"/>
            <a:chExt cx="9156960" cy="3876840"/>
          </a:xfrm>
        </p:grpSpPr>
        <p:pic>
          <p:nvPicPr>
            <p:cNvPr id="167" name="Rectangle 11" descr=""/>
            <p:cNvPicPr/>
            <p:nvPr/>
          </p:nvPicPr>
          <p:blipFill>
            <a:blip r:embed="rId4"/>
            <a:stretch/>
          </p:blipFill>
          <p:spPr>
            <a:xfrm>
              <a:off x="-6480" y="-6480"/>
              <a:ext cx="9156960" cy="387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3"/>
          <p:cNvGrpSpPr/>
          <p:nvPr/>
        </p:nvGrpSpPr>
        <p:grpSpPr>
          <a:xfrm>
            <a:off x="-6480" y="1596960"/>
            <a:ext cx="9156960" cy="5114880"/>
            <a:chOff x="-6480" y="1596960"/>
            <a:chExt cx="9156960" cy="5114880"/>
          </a:xfrm>
        </p:grpSpPr>
        <p:pic>
          <p:nvPicPr>
            <p:cNvPr id="171" name="Oval 13" descr=""/>
            <p:cNvPicPr/>
            <p:nvPr/>
          </p:nvPicPr>
          <p:blipFill>
            <a:blip r:embed="rId5"/>
            <a:stretch/>
          </p:blipFill>
          <p:spPr>
            <a:xfrm>
              <a:off x="-6480" y="1596960"/>
              <a:ext cx="9156960" cy="511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E890F-94AC-4752-85F8-9AF2AF3B534D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mathsolutions.com/index.cfm?page=wp10&amp;crid=154&amp;contentid=652" TargetMode="External"/><Relationship Id="rId2" Type="http://schemas.openxmlformats.org/officeDocument/2006/relationships/hyperlink" Target="http://www.mathsolutions.com/index.cfm?page=wp10&amp;crid=154&amp;contentid=652" TargetMode="External"/><Relationship Id="rId3" Type="http://schemas.openxmlformats.org/officeDocument/2006/relationships/hyperlink" Target="http://www.mathsolutions.com/documents/2004_A_Can_of_Coke_NSDC.pdf" TargetMode="External"/><Relationship Id="rId4" Type="http://schemas.openxmlformats.org/officeDocument/2006/relationships/hyperlink" Target="http://www.mathsolutions.com/documents/2004_A_Can_of_Coke_NSDC.pdf" TargetMode="External"/><Relationship Id="rId5" Type="http://schemas.openxmlformats.org/officeDocument/2006/relationships/hyperlink" Target="http://www.mathsolutions.com/documents/2004_A_Can_of_Coke_NSDC.pdf" TargetMode="External"/><Relationship Id="rId6" Type="http://schemas.openxmlformats.org/officeDocument/2006/relationships/hyperlink" Target="http://suite101.com/article/think-alouds-in-math-not-just-for-reading-anymore-a380958" TargetMode="External"/><Relationship Id="rId7" Type="http://schemas.openxmlformats.org/officeDocument/2006/relationships/hyperlink" Target="http://love2learn2day.blogspot.com/p/math-book-lists-tba.html" TargetMode="External"/><Relationship Id="rId8" Type="http://schemas.openxmlformats.org/officeDocument/2006/relationships/hyperlink" Target="http://love2learn2day.blogspot.com/p/math-book-lists-tba.html" TargetMode="External"/><Relationship Id="rId9" Type="http://schemas.openxmlformats.org/officeDocument/2006/relationships/hyperlink" Target="http://gentleartofchaos.blogspot.com/2010/03/living-math-math-read-alouds.html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mathstervakkas.com/" TargetMode="External"/><Relationship Id="rId2" Type="http://schemas.openxmlformats.org/officeDocument/2006/relationships/hyperlink" Target="http://www.mathwire.com/archives/index.html" TargetMode="External"/><Relationship Id="rId3" Type="http://schemas.openxmlformats.org/officeDocument/2006/relationships/hyperlink" Target="http://www.k-5mathteachingresources.com/2nd-grade-number-activities.html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181480" y="3733920"/>
            <a:ext cx="33768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3260c"/>
                </a:solidFill>
                <a:latin typeface="LD Shelly Print"/>
              </a:rPr>
              <a:t>Judi Cagle</a:t>
            </a:r>
            <a:endParaRPr b="0" lang="en-US" sz="3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3260c"/>
                </a:solidFill>
                <a:latin typeface="LD Shelly Print"/>
              </a:rPr>
              <a:t>Curriculum Support Instructor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3260c"/>
                </a:solidFill>
                <a:latin typeface="LD Shelly Print"/>
              </a:rPr>
              <a:t>Trindale Elementary Schoo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260c"/>
                </a:solidFill>
                <a:latin typeface="LD Shelly Print"/>
              </a:rPr>
              <a:t>jcagle@randolph.k12.nc.us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2" name="Picture 2" descr="C:\Documents and Settings\jcagle\Local Settings\Temporary Internet Files\Content.IE5\TDTF2O6V\MC900094733[1].wmf"/>
          <p:cNvPicPr/>
          <p:nvPr/>
        </p:nvPicPr>
        <p:blipFill>
          <a:blip r:embed="rId1"/>
          <a:stretch/>
        </p:blipFill>
        <p:spPr>
          <a:xfrm rot="20793600">
            <a:off x="983880" y="2908440"/>
            <a:ext cx="3300480" cy="3616200"/>
          </a:xfrm>
          <a:prstGeom prst="rect">
            <a:avLst/>
          </a:prstGeom>
          <a:ln w="0">
            <a:noFill/>
          </a:ln>
        </p:spPr>
      </p:pic>
      <p:sp>
        <p:nvSpPr>
          <p:cNvPr id="223" name="TextBox 3"/>
          <p:cNvSpPr/>
          <p:nvPr/>
        </p:nvSpPr>
        <p:spPr>
          <a:xfrm>
            <a:off x="609480" y="609480"/>
            <a:ext cx="80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3260c"/>
                </a:solidFill>
                <a:latin typeface="LD Shelly Print"/>
              </a:rPr>
              <a:t>Making Read Alouds COUNT...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c3260c"/>
                </a:solidFill>
                <a:latin typeface="LD Shelly Print"/>
              </a:rPr>
              <a:t>in Math!</a:t>
            </a:r>
            <a:endParaRPr b="0" lang="en-US" sz="5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260c"/>
                </a:solidFill>
                <a:latin typeface="LD Shelly Print"/>
              </a:rPr>
              <a:t>February 18, 2013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 rot="21107400">
            <a:off x="595080" y="66204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9240" algn="ctr">
              <a:lnSpc>
                <a:spcPct val="100000"/>
              </a:lnSpc>
              <a:spcBef>
                <a:spcPts val="1026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c3260c"/>
                </a:solidFill>
                <a:latin typeface="LD Shelly Print"/>
              </a:rPr>
              <a:t>"Children's literature plays an important role in confirming the notion that math is more than computation on paper and provides opportunities for learners to develop the </a:t>
            </a:r>
            <a:r>
              <a:rPr b="1" lang="en-US" sz="4100" spc="-1" strike="noStrike" u="sng">
                <a:solidFill>
                  <a:srgbClr val="c3260c"/>
                </a:solidFill>
                <a:uFillTx/>
                <a:latin typeface="LD Shelly Print"/>
              </a:rPr>
              <a:t>language</a:t>
            </a:r>
            <a:r>
              <a:rPr b="1" lang="en-US" sz="4100" spc="-1" strike="noStrike">
                <a:solidFill>
                  <a:srgbClr val="c3260c"/>
                </a:solidFill>
                <a:latin typeface="LD Shelly Print"/>
              </a:rPr>
              <a:t> of math."  </a:t>
            </a:r>
            <a:endParaRPr b="0" lang="en-US" sz="4100" spc="-1" strike="noStrike">
              <a:solidFill>
                <a:srgbClr val="404040"/>
              </a:solidFill>
              <a:latin typeface="Trebuchet MS"/>
            </a:endParaRPr>
          </a:p>
          <a:p>
            <a:pPr marL="39240" algn="ctr">
              <a:lnSpc>
                <a:spcPct val="10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c3260c"/>
                </a:solidFill>
                <a:latin typeface="LD Shelly Print"/>
              </a:rPr>
              <a:t>Donna Maxim, Center for Teaching and Learning</a:t>
            </a: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  <a:p>
            <a:pPr marL="39240">
              <a:lnSpc>
                <a:spcPct val="100000"/>
              </a:lnSpc>
              <a:spcBef>
                <a:spcPts val="42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5" name="Picture 1" descr=""/>
          <p:cNvPicPr/>
          <p:nvPr/>
        </p:nvPicPr>
        <p:blipFill>
          <a:blip r:embed="rId1"/>
          <a:stretch/>
        </p:blipFill>
        <p:spPr>
          <a:xfrm>
            <a:off x="6172200" y="4317840"/>
            <a:ext cx="2286000" cy="21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1143000" y="731880"/>
            <a:ext cx="723888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9600"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LD Shelly Print"/>
              </a:rPr>
              <a:t>Presentation Resources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9600" algn="ctr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LD Shelly Print"/>
              </a:rPr>
              <a:t>Carolyn Felux’s Q&amp;A,  </a:t>
            </a:r>
            <a:r>
              <a:rPr b="0" lang="en-US" sz="1600" spc="-1" strike="noStrike" u="sng">
                <a:solidFill>
                  <a:srgbClr val="56c7aa"/>
                </a:solidFill>
                <a:uFillTx/>
                <a:latin typeface="LD Shelly Print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56c7aa"/>
                </a:solidFill>
                <a:uFillTx/>
                <a:latin typeface="LD Shelly Print"/>
                <a:hlinkClick r:id="rId2"/>
              </a:rPr>
              <a:t>www.mathsolutions.com/index.cfm?page=wp10&amp;crid=154&amp;contentid=652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LD Shelly Print"/>
              </a:rPr>
              <a:t>Marilyn Burns article, “A Can of Coke Leads to a Piece of Pi” </a:t>
            </a:r>
            <a:r>
              <a:rPr b="0" lang="en-US" sz="1600" spc="-1" strike="noStrike" u="sng">
                <a:solidFill>
                  <a:srgbClr val="56c7aa"/>
                </a:solidFill>
                <a:uFillTx/>
                <a:latin typeface="LD Shelly Print"/>
                <a:hlinkClick r:id="rId3"/>
              </a:rPr>
              <a:t>http</a:t>
            </a:r>
            <a:r>
              <a:rPr b="0" lang="en-US" sz="1600" spc="-1" strike="noStrike" u="sng">
                <a:solidFill>
                  <a:srgbClr val="56c7aa"/>
                </a:solidFill>
                <a:uFillTx/>
                <a:latin typeface="LD Shelly Print"/>
                <a:hlinkClick r:id="rId4"/>
              </a:rPr>
              <a:t>://</a:t>
            </a:r>
            <a:r>
              <a:rPr b="0" lang="en-US" sz="1600" spc="-1" strike="noStrike" u="sng">
                <a:solidFill>
                  <a:srgbClr val="56c7aa"/>
                </a:solidFill>
                <a:uFillTx/>
                <a:latin typeface="LD Shelly Print"/>
                <a:hlinkClick r:id="rId5"/>
              </a:rPr>
              <a:t>www.mathsolutions.com/documents/2004_A_Can_of_Coke_NSDC.pdf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LD Shelly Print"/>
              </a:rPr>
              <a:t>Article, “Think Alouds in Math: Not Just for Reading Anymore” by Beth McKenna, </a:t>
            </a:r>
            <a:r>
              <a:rPr b="0" lang="en-US" sz="1600" spc="-1" strike="noStrike" u="sng">
                <a:solidFill>
                  <a:srgbClr val="56c7aa"/>
                </a:solidFill>
                <a:uFillTx/>
                <a:latin typeface="LD Shelly Print"/>
                <a:hlinkClick r:id="rId6"/>
              </a:rPr>
              <a:t>http://suite101.com/article/think-alouds-in-math-not-just-for-reading-anymore-a380958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LD Shelly Print"/>
              </a:rPr>
              <a:t>Cindy Hockman-Chupp’s Math Literature list, </a:t>
            </a:r>
            <a:r>
              <a:rPr b="0" lang="en-US" sz="1600" spc="-1" strike="noStrike" u="sng">
                <a:solidFill>
                  <a:srgbClr val="56c7aa"/>
                </a:solidFill>
                <a:uFillTx/>
                <a:latin typeface="LD Shelly Print"/>
                <a:hlinkClick r:id="rId7"/>
              </a:rPr>
              <a:t>http://</a:t>
            </a:r>
            <a:r>
              <a:rPr b="0" lang="en-US" sz="1600" spc="-1" strike="noStrike" u="sng">
                <a:solidFill>
                  <a:srgbClr val="56c7aa"/>
                </a:solidFill>
                <a:uFillTx/>
                <a:latin typeface="LD Shelly Print"/>
                <a:hlinkClick r:id="rId8"/>
              </a:rPr>
              <a:t>love2learn2day.blogspot.com/p/math-book-lists-tba.html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LD Shelly Print"/>
              </a:rPr>
              <a:t>Heather’s Living Math Read Alouds List, 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56c7aa"/>
                </a:solidFill>
                <a:uFillTx/>
                <a:latin typeface="LD Shelly Print"/>
                <a:hlinkClick r:id="rId9"/>
              </a:rPr>
              <a:t>http</a:t>
            </a:r>
            <a:r>
              <a:rPr b="0" lang="en-US" sz="1600" spc="-1" strike="noStrike">
                <a:solidFill>
                  <a:srgbClr val="404040"/>
                </a:solidFill>
                <a:latin typeface="LD Shelly Print"/>
              </a:rPr>
              <a:t>://gentleartofchaos.blogspot.com/2010/03/living-math-math-read-alouds.html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LD Shelly Print"/>
              </a:rPr>
              <a:t>Marilyn Burns Math Libraries Book List, http://teacher.scholastic.com/products/paperbacks/marilynburns/programglance.htm</a:t>
            </a:r>
            <a:endParaRPr b="0" lang="en-US" sz="16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04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1218960" y="761760"/>
            <a:ext cx="6629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9960"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3260c"/>
                </a:solidFill>
                <a:latin typeface="LD Shelly Print"/>
              </a:rPr>
              <a:t>What would we do if all the numbers in the world suddenly went missing???</a:t>
            </a: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  <a:p>
            <a:pPr marL="39960" algn="ctr">
              <a:lnSpc>
                <a:spcPct val="100000"/>
              </a:lnSpc>
              <a:spcBef>
                <a:spcPts val="9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5326200" y="2590920"/>
            <a:ext cx="2555640" cy="2819160"/>
          </a:xfrm>
          <a:prstGeom prst="rect">
            <a:avLst/>
          </a:prstGeom>
          <a:ln w="0">
            <a:noFill/>
          </a:ln>
        </p:spPr>
      </p:pic>
      <p:sp>
        <p:nvSpPr>
          <p:cNvPr id="226" name="TextBox 4"/>
          <p:cNvSpPr/>
          <p:nvPr/>
        </p:nvSpPr>
        <p:spPr>
          <a:xfrm>
            <a:off x="1676520" y="3505320"/>
            <a:ext cx="3352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260c"/>
                </a:solidFill>
                <a:latin typeface="LD Shelly Print"/>
              </a:rPr>
              <a:t>Missing Math: A Number Myster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3260c"/>
                </a:solidFill>
                <a:latin typeface="LD Shelly Print"/>
              </a:rPr>
              <a:t>By Loreen Leedy</a:t>
            </a: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609480" y="1904760"/>
            <a:ext cx="784872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37080" algn="ctr">
              <a:lnSpc>
                <a:spcPct val="9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1489f"/>
                </a:solidFill>
                <a:latin typeface="LD Shelly Print"/>
              </a:rPr>
              <a:t>Linking math to children’s literature can: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7080">
              <a:lnSpc>
                <a:spcPct val="90000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7080">
              <a:lnSpc>
                <a:spcPct val="9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3260c"/>
                </a:solidFill>
                <a:latin typeface="LD Shelly Print"/>
              </a:rPr>
              <a:t>Spark children’s interest in learning mathematics.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7080">
              <a:lnSpc>
                <a:spcPct val="9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3260c"/>
                </a:solidFill>
                <a:latin typeface="LD Shelly Print"/>
              </a:rPr>
              <a:t>Provide contexts that bring meaning to mathematical ideas.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7080">
              <a:lnSpc>
                <a:spcPct val="9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3260c"/>
                </a:solidFill>
                <a:latin typeface="LD Shelly Print"/>
              </a:rPr>
              <a:t>Tie mathematics to another area of the curriculum. 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7080">
              <a:lnSpc>
                <a:spcPct val="90000"/>
              </a:lnSpc>
              <a:spcBef>
                <a:spcPts val="675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3260c"/>
                </a:solidFill>
                <a:latin typeface="LD Shelly Print"/>
              </a:rPr>
              <a:t>Support student understanding through communication.</a:t>
            </a: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  <a:p>
            <a:pPr marL="37080">
              <a:lnSpc>
                <a:spcPct val="90000"/>
              </a:lnSpc>
              <a:spcBef>
                <a:spcPts val="675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8" name="Picture 4" descr="C:\Documents and Settings\jcagle\Local Settings\Temporary Internet Files\Content.IE5\IA4R5FX8\MC900237185[1].wmf"/>
          <p:cNvPicPr/>
          <p:nvPr/>
        </p:nvPicPr>
        <p:blipFill>
          <a:blip r:embed="rId1"/>
          <a:stretch/>
        </p:blipFill>
        <p:spPr>
          <a:xfrm>
            <a:off x="6934320" y="152280"/>
            <a:ext cx="1828800" cy="165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533160" y="731520"/>
            <a:ext cx="792468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4920" algn="ctr">
              <a:lnSpc>
                <a:spcPct val="100000"/>
              </a:lnSpc>
              <a:spcBef>
                <a:spcPts val="11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030a0"/>
                </a:solidFill>
                <a:latin typeface="LD Shelly Print"/>
              </a:rPr>
              <a:t>How do you choose a book to use?</a:t>
            </a:r>
            <a:endParaRPr b="0" lang="en-US" sz="4400" spc="-1" strike="noStrike">
              <a:solidFill>
                <a:srgbClr val="404040"/>
              </a:solidFill>
              <a:latin typeface="Trebuchet MS"/>
            </a:endParaRPr>
          </a:p>
          <a:p>
            <a:pPr marL="349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3260c"/>
                </a:solidFill>
                <a:latin typeface="LD Shelly Print"/>
              </a:rPr>
              <a:t>Select books that are of a high quality from a literary perspectiv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9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3260c"/>
                </a:solidFill>
                <a:latin typeface="LD Shelly Print"/>
              </a:rPr>
              <a:t>Look for literature that presents content that is mathematically sound and grade level appropriate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9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3260c"/>
                </a:solidFill>
                <a:latin typeface="LD Shelly Print"/>
              </a:rPr>
              <a:t>Carefully consider the potential the book has for helping students learn to think and reason mathematically.</a:t>
            </a: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  <a:p>
            <a:pPr marL="34920">
              <a:lnSpc>
                <a:spcPct val="100000"/>
              </a:lnSpc>
              <a:spcBef>
                <a:spcPts val="7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0" name="Picture 2" descr="C:\Documents and Settings\jcagle\Local Settings\Temporary Internet Files\Content.IE5\VJLHH0WA\MC900199330[1].wmf"/>
          <p:cNvPicPr/>
          <p:nvPr/>
        </p:nvPicPr>
        <p:blipFill>
          <a:blip r:embed="rId1"/>
          <a:stretch/>
        </p:blipFill>
        <p:spPr>
          <a:xfrm>
            <a:off x="3048120" y="4419720"/>
            <a:ext cx="3047760" cy="1928520"/>
          </a:xfrm>
          <a:prstGeom prst="rect">
            <a:avLst/>
          </a:prstGeom>
          <a:ln w="0">
            <a:noFill/>
          </a:ln>
        </p:spPr>
      </p:pic>
      <p:sp>
        <p:nvSpPr>
          <p:cNvPr id="231" name="TextBox 3"/>
          <p:cNvSpPr/>
          <p:nvPr/>
        </p:nvSpPr>
        <p:spPr>
          <a:xfrm>
            <a:off x="1828800" y="6353280"/>
            <a:ext cx="57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D Shelly Print"/>
              </a:rPr>
              <a:t>List by Carolyn Felux, Math Solutions</a:t>
            </a:r>
            <a:endParaRPr b="0" lang="en-US" sz="10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304920" y="304560"/>
            <a:ext cx="5346720" cy="61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9600"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d79ca"/>
                </a:solidFill>
                <a:latin typeface="LD Shelly Print"/>
              </a:rPr>
              <a:t>Online Lesson Resources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6c7aa"/>
                </a:solidFill>
                <a:uFillTx/>
                <a:latin typeface="LD Shelly Print"/>
                <a:hlinkClick r:id="rId1"/>
              </a:rPr>
              <a:t>Mathster Vakkas </a:t>
            </a:r>
            <a:r>
              <a:rPr b="1" lang="en-US" sz="1800" spc="-1" strike="noStrike">
                <a:solidFill>
                  <a:srgbClr val="c3260c"/>
                </a:solidFill>
                <a:latin typeface="LD Shelly Print"/>
              </a:rPr>
              <a:t>– Math Read Alouds on video along with teaching videos with a problem for students to solve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6c7aa"/>
                </a:solidFill>
                <a:uFillTx/>
                <a:latin typeface="LD Shelly Print"/>
                <a:hlinkClick r:id="rId2"/>
              </a:rPr>
              <a:t>Mathwire </a:t>
            </a:r>
            <a:r>
              <a:rPr b="1" lang="en-US" sz="1800" spc="-1" strike="noStrike">
                <a:solidFill>
                  <a:srgbClr val="c3260c"/>
                </a:solidFill>
                <a:latin typeface="LD Shelly Print"/>
              </a:rPr>
              <a:t>– Great resource with a Math Literature Connections section.  In this section you will find suggested books along with teaching resource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56c7aa"/>
                </a:solidFill>
                <a:uFillTx/>
                <a:latin typeface="LD Shelly Print"/>
                <a:hlinkClick r:id="rId3"/>
              </a:rPr>
              <a:t>K-5 Math Teaching Resources </a:t>
            </a:r>
            <a:r>
              <a:rPr b="1" lang="en-US" sz="1800" spc="-1" strike="noStrike">
                <a:solidFill>
                  <a:srgbClr val="c3260c"/>
                </a:solidFill>
                <a:latin typeface="LD Shelly Print"/>
              </a:rPr>
              <a:t>– Has resources listed by Domain and grade level. Also has Math Read Aloud Task Cards.</a:t>
            </a: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  <a:p>
            <a:pPr marL="39600">
              <a:lnSpc>
                <a:spcPct val="100000"/>
              </a:lnSpc>
              <a:spcBef>
                <a:spcPts val="45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Picture 2" descr=""/>
          <p:cNvPicPr/>
          <p:nvPr/>
        </p:nvPicPr>
        <p:blipFill>
          <a:blip r:embed="rId4"/>
          <a:stretch/>
        </p:blipFill>
        <p:spPr>
          <a:xfrm rot="20949600">
            <a:off x="7226280" y="3033720"/>
            <a:ext cx="1549440" cy="12193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3" descr=""/>
          <p:cNvPicPr/>
          <p:nvPr/>
        </p:nvPicPr>
        <p:blipFill>
          <a:blip r:embed="rId5"/>
          <a:stretch/>
        </p:blipFill>
        <p:spPr>
          <a:xfrm>
            <a:off x="5803920" y="2898720"/>
            <a:ext cx="1197000" cy="15238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4" descr=""/>
          <p:cNvPicPr/>
          <p:nvPr/>
        </p:nvPicPr>
        <p:blipFill>
          <a:blip r:embed="rId6"/>
          <a:stretch/>
        </p:blipFill>
        <p:spPr>
          <a:xfrm rot="653400">
            <a:off x="7391160" y="1091880"/>
            <a:ext cx="1218960" cy="124128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6" descr=""/>
          <p:cNvPicPr/>
          <p:nvPr/>
        </p:nvPicPr>
        <p:blipFill>
          <a:blip r:embed="rId7"/>
          <a:stretch/>
        </p:blipFill>
        <p:spPr>
          <a:xfrm rot="20984400">
            <a:off x="5866920" y="685800"/>
            <a:ext cx="1006560" cy="152388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7" descr=""/>
          <p:cNvPicPr/>
          <p:nvPr/>
        </p:nvPicPr>
        <p:blipFill>
          <a:blip r:embed="rId8"/>
          <a:stretch/>
        </p:blipFill>
        <p:spPr>
          <a:xfrm rot="641400">
            <a:off x="5956200" y="5072040"/>
            <a:ext cx="1427400" cy="130968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8" descr=""/>
          <p:cNvPicPr/>
          <p:nvPr/>
        </p:nvPicPr>
        <p:blipFill>
          <a:blip r:embed="rId9"/>
          <a:stretch/>
        </p:blipFill>
        <p:spPr>
          <a:xfrm>
            <a:off x="7724880" y="4950000"/>
            <a:ext cx="11509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762120" y="731520"/>
            <a:ext cx="7696080" cy="55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1400" algn="ctr">
              <a:lnSpc>
                <a:spcPct val="100000"/>
              </a:lnSpc>
              <a:spcBef>
                <a:spcPts val="1001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3260c"/>
                </a:solidFill>
                <a:latin typeface="LD Shelly Print"/>
              </a:rPr>
              <a:t>Book Lists</a:t>
            </a:r>
            <a:endParaRPr b="0" lang="en-US" sz="4000" spc="-1" strike="noStrike">
              <a:solidFill>
                <a:srgbClr val="404040"/>
              </a:solidFill>
              <a:latin typeface="Trebuchet MS"/>
            </a:endParaRPr>
          </a:p>
          <a:p>
            <a:pPr marL="41400">
              <a:lnSpc>
                <a:spcPct val="100000"/>
              </a:lnSpc>
              <a:spcBef>
                <a:spcPts val="601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3260c"/>
                </a:solidFill>
                <a:latin typeface="LD Shelly Print"/>
              </a:rPr>
              <a:t>Judi’s list is arranged by Common Core Domains.</a:t>
            </a:r>
            <a:endParaRPr b="0" lang="en-US" sz="2400" spc="-1" strike="noStrike">
              <a:solidFill>
                <a:srgbClr val="404040"/>
              </a:solidFill>
              <a:latin typeface="Trebuchet MS"/>
            </a:endParaRPr>
          </a:p>
          <a:p>
            <a:pPr lvl="1" marL="514440" indent="-1713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260c"/>
                </a:solidFill>
                <a:latin typeface="LD Shelly Print"/>
              </a:rPr>
              <a:t>Operations and Algebraic Thinking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14440" indent="-1713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260c"/>
                </a:solidFill>
                <a:latin typeface="LD Shelly Print"/>
              </a:rPr>
              <a:t>Number and Operations in Base Ten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14440" indent="-1713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260c"/>
                </a:solidFill>
                <a:latin typeface="LD Shelly Print"/>
              </a:rPr>
              <a:t>Number and Operations-Fractions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14440" indent="-1713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260c"/>
                </a:solidFill>
                <a:latin typeface="LD Shelly Print"/>
              </a:rPr>
              <a:t>Measurement and Data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14440" indent="-1713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260c"/>
                </a:solidFill>
                <a:latin typeface="LD Shelly Print"/>
              </a:rPr>
              <a:t>Geometry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14440" indent="-1713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14440" indent="-1713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260c"/>
                </a:solidFill>
                <a:latin typeface="LD Shelly Print"/>
              </a:rPr>
              <a:t>I have not read every book on the list, so make sure that you read the books ahead of time to make sure that they match what YOU are teaching.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14440" indent="-1713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260c"/>
                </a:solidFill>
                <a:latin typeface="LD Shelly Print"/>
              </a:rPr>
              <a:t> 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  <a:p>
            <a:pPr lvl="1" marL="514440" indent="-171360">
              <a:lnSpc>
                <a:spcPct val="100000"/>
              </a:lnSpc>
              <a:spcBef>
                <a:spcPts val="499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3260c"/>
                </a:solidFill>
                <a:latin typeface="LD Shelly Print"/>
              </a:rPr>
              <a:t>Links for additional lists are at the end of the Power Point.</a:t>
            </a:r>
            <a:endParaRPr b="0" lang="en-US" sz="20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40" name="Picture 2" descr="C:\Documents and Settings\jcagle\Local Settings\Temporary Internet Files\Content.IE5\DWQH2N1E\MC900130271[1].wmf"/>
          <p:cNvPicPr/>
          <p:nvPr/>
        </p:nvPicPr>
        <p:blipFill>
          <a:blip r:embed="rId1"/>
          <a:stretch/>
        </p:blipFill>
        <p:spPr>
          <a:xfrm>
            <a:off x="6156360" y="1600200"/>
            <a:ext cx="2476440" cy="22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Object 5" descr=""/>
          <p:cNvPicPr/>
          <p:nvPr/>
        </p:nvPicPr>
        <p:blipFill>
          <a:blip r:embed="rId1"/>
          <a:stretch/>
        </p:blipFill>
        <p:spPr>
          <a:xfrm>
            <a:off x="838080" y="457200"/>
            <a:ext cx="741708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Object 6" descr=""/>
          <p:cNvPicPr/>
          <p:nvPr/>
        </p:nvPicPr>
        <p:blipFill>
          <a:blip r:embed="rId1"/>
          <a:stretch/>
        </p:blipFill>
        <p:spPr>
          <a:xfrm>
            <a:off x="1600200" y="163440"/>
            <a:ext cx="5883120" cy="64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Object 6" descr=""/>
          <p:cNvPicPr/>
          <p:nvPr/>
        </p:nvPicPr>
        <p:blipFill>
          <a:blip r:embed="rId1"/>
          <a:stretch/>
        </p:blipFill>
        <p:spPr>
          <a:xfrm>
            <a:off x="1905120" y="152280"/>
            <a:ext cx="5305320" cy="642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13:51:17Z</dcterms:created>
  <dc:creator>Cagle, Judi</dc:creator>
  <dc:description/>
  <dc:language>en-US</dc:language>
  <cp:lastModifiedBy>afloyd</cp:lastModifiedBy>
  <cp:lastPrinted>2013-02-15T16:07:10Z</cp:lastPrinted>
  <dcterms:modified xsi:type="dcterms:W3CDTF">2013-02-15T16:54:30Z</dcterms:modified>
  <cp:revision>34</cp:revision>
  <dc:subject/>
  <dc:title>PowerPoint Presentation</dc:title>
</cp:coreProperties>
</file>